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799F-0079-4D04-B1A0-39EE5F5E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CC2-F612-4F1F-B29D-E43AB374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upload.wikimedia.org/wikipedia/commons/1/12/Singapore_Botanic_Gardens_Cactus_Garden_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7B0-5E61-423D-8126-0236BD3F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6D0A-348A-4089-AA85-0A2612BC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711-95A3-4FF3-9C82-574313DC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C19-6BCF-4F25-8CBB-5FE257B4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7E93-2892-4070-8FAC-123A84C41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832-34A6-4CE0-B688-4614A8C3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BD52-566F-4F22-B208-841FC481F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511-6990-4E98-89D0-7ED56FB9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40A-4C3B-4308-9CC0-1110C915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AD4-C6ED-462B-BF44-F554065D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CED-9C8D-4CCA-A45D-DDF38730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65E-8505-4467-92B6-BDBC52BF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1B3-800E-496F-B6F3-15F2C77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7FD-CAE2-46BF-A159-529C14C6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27F-BDE3-43C6-B166-B2C7D4EA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CDA-94F0-4CC9-A606-86455F36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2BC-4CDF-4796-A454-84C99EB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091-53AB-4E86-B88A-A3BAE1A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2A8-768A-446B-B5D4-B54D7C2D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E562-B1EE-4387-A159-D158D90D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58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duc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uBP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c10x17calvin-cycle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step-by-step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Ryerson self-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Thylakoid_membrane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x-t0sGyjf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7-06-09T14:05:04Z</dcterms:modified>
  <cp:revision>36</cp:revision>
  <dc:subject/>
  <dc:title>PowerPoint Presentation</dc:title>
</cp:coreProperties>
</file>